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2960" y="742680"/>
            <a:ext cx="49543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526680" y="4626000"/>
            <a:ext cx="5800680" cy="4457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4192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6D0B908-BB8E-4D1E-9DE7-7263DFE80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26680" y="4626000"/>
            <a:ext cx="5800680" cy="4457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n Name ist Michael Erdmann und ich bin Mitarbeiter in der Arbeitsgruppe "Wissensmanagement" von Prof. Rudi Stu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 AIFB (Angewandte Informatik und Formale Beschreibungsverfahren) ist ein Informatik-Institut an der Wi-Wi-Fakultät der Uni Karlsruhe, wo wir uns um die Informatik-Ausbildung der Studierenden des Faches Wirtschaftsingenierwesen kümm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erpunkte der Arbeitsgrup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Ac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Discovery in Databases / Data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Management (der IT - Teil, insb. mit KI-Technik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tl. Synonym zu Informationslogistik nach SPP-Ausschreibu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mindest was IT-Unterstützung ange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e Informationssuche (inkl. aktueller Standards des WW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 enge Anknüpfungspunkte für Agententechn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49B2-4BE8-4144-A1DF-05DF63D60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29EE-2B6E-48CB-AC0A-27BB0D757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3201-647B-4E23-A89C-8CCD1F96C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2140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348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DC37-3D5E-41FD-833D-0AF6779D6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369-3D18-497A-BE05-FE1C25E0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AE9-1040-4520-966F-8A339DA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37E-AD02-4DE5-B6E5-AF15DDA2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2D3-B798-4E98-AB26-EF2280F9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9EB-7CF2-4274-BB8A-21408F1B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34B-9685-4CE5-B9C1-8DDF58D3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422-DAE3-4C68-AF65-A35030B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1D4C-D6AB-440D-855A-4A8DD793F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6B2-AB89-4AB3-982D-EEEB9A1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B5D-83DE-4B7B-BDBA-D977ECAD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4A5-00F9-4F57-B660-63CD6802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85D-FA49-489D-84E3-C107A78B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2140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23480" y="198108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932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2140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23480" y="43693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657-8F1C-4FAE-9B6D-303EEB8F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1B73-7372-4056-B8F9-DC3160A7B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F5FD-947A-498C-9E73-BF892DEAB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CDBE-F51C-4B4A-A1ED-7B81762A4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0164-B209-4D61-8AE5-FFEA1C54F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0A5B-9D49-42AA-984C-414E536E4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3120" y="43693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72C6-D02E-4BE0-A698-F5026A3AB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3120" y="198108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43693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F926-A2A7-488E-A632-4F761D392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0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6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2" action="ppaction://hlinksldjump"/>
          </p:cNvPr>
          <p:cNvSpPr/>
          <p:nvPr/>
        </p:nvSpPr>
        <p:spPr>
          <a:xfrm>
            <a:off x="0" y="25146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0" y="1523880"/>
            <a:ext cx="1143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Over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KA2-Por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Ontolog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Provi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Portal Ac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490a8"/>
                </a:solidFill>
                <a:latin typeface="Arial"/>
              </a:rPr>
              <a:t>Conclu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4DDA-8F2D-4DF1-B83C-56FA113D2F47}" type="slidenum">
              <a:rPr b="1" lang="en-US" sz="11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aifb_logo1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322560" cy="1067040"/>
          </a:xfrm>
          <a:prstGeom prst="rect">
            <a:avLst/>
          </a:prstGeom>
          <a:ln w="0">
            <a:noFill/>
          </a:ln>
        </p:spPr>
      </p:pic>
      <p:sp>
        <p:nvSpPr>
          <p:cNvPr id="5" name="">
            <a:hlinkClick r:id="rId5" action="ppaction://hlinksldjump"/>
          </p:cNvPr>
          <p:cNvSpPr/>
          <p:nvPr/>
        </p:nvSpPr>
        <p:spPr>
          <a:xfrm>
            <a:off x="-152280" y="21337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0" y="586692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77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Slide </a:t>
            </a:r>
            <a:fld id="{A18123EE-D2FE-4051-A8E5-3E1E6867C78C}" type="slidenum">
              <a:rPr b="1" lang="en-US" sz="11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ifb_logo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14600" cy="2362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3E1-5625-48A0-BB70-2071869BBB43}" type="datetime">
              <a:rPr b="1" lang="en-US" sz="1100" spc="-1" strike="noStrike">
                <a:solidFill>
                  <a:srgbClr val="009999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550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06080" y="45864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Semantic Community Web Portals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04640" y="2398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di Stud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nowledge Management Gro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itute AIFB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versity of Karlsruh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://www.aifb.uni-karlsruhe.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gstuhl Seminar “Semantics for the Web"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h 19 - 24, 200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25160" y="228600"/>
            <a:ext cx="75135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language neu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ing of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large extent available for concepts and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xioms opens the way to handle axioms i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0920" y="1549080"/>
            <a:ext cx="39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F430-BAC1-4B2C-B931-661A22CBE6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44160" y="793800"/>
            <a:ext cx="7226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y calcul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eb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bining ontologies in a semantically well-defined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.g. SKC project in Stan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.g. DA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has to be adapted to chang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/ interests of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03E2-B607-407F-BEA5-036303222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4. Providing Information for the </a:t>
            </a: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   Semantic Community Web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of information has to be pos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ers of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lf-organiz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with the diversity of information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inform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rich documents with semant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provisio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emantic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Wareho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re the provided fa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th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160" y="3411360"/>
            <a:ext cx="1031760" cy="505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4C5F-E4CE-4E3F-B2CF-929DA07A5F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tadata based Information: Issu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0800" y="654120"/>
            <a:ext cx="796284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objectiv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over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fa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-and-p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otation tool: Onto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annotated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cal concep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cal facts come for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DTDs out of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tags have semantic underp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F(s) delivers a standardization for metadata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reuse and exchange of metadata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tract onto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s from given tex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160" y="3411360"/>
            <a:ext cx="1031760" cy="505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0B7F-19F8-404B-A350-AC4E69918B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ntoPa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fig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8001000" cy="500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160" y="3411360"/>
            <a:ext cx="1031760" cy="505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5A1B-57E3-4D38-A48E-FC657F207E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5. Accessing the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has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semantic structure of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multitud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specific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complex queries behind hypertext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or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specific user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bo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ram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tegrate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new knowledge by exploiting th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8B09-4382-4120-A8C8-C83B1C90FD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Querying the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 a query b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concepts, attributes,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heck boxes, selection list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e concept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 query by concept attrib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toring them as semantic bookma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D475-76B5-4F5A-934E-FB2DFF9CC9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92320" y="361440"/>
            <a:ext cx="76960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Query Interfa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Graphic1" descr=""/>
          <p:cNvPicPr/>
          <p:nvPr/>
        </p:nvPicPr>
        <p:blipFill>
          <a:blip r:embed="rId1"/>
          <a:stretch/>
        </p:blipFill>
        <p:spPr>
          <a:xfrm>
            <a:off x="1176480" y="1306440"/>
            <a:ext cx="7967520" cy="483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A12F-F66F-4BAE-B6DF-579CD105AC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74400"/>
            <a:ext cx="76960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yperbolic View Interfa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fig3" descr=""/>
          <p:cNvPicPr/>
          <p:nvPr/>
        </p:nvPicPr>
        <p:blipFill>
          <a:blip r:embed="rId1"/>
          <a:stretch/>
        </p:blipFill>
        <p:spPr>
          <a:xfrm>
            <a:off x="1387440" y="1195560"/>
            <a:ext cx="6934320" cy="5171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02C3-FDF3-4F30-A5EE-67C83509B0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4160" y="2966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Issue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0346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formalism has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port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traight forward for concepts,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delivery of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ing of deri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asy-to-use mean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o be tailor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plication /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160" y="407988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EEA3-495D-43D3-9732-2C6360B8D4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to appear in:</a:t>
            </a: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 Proceedings of the 9th International World Wide Web Conference (WWW '9), Amsterdam, May 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515360" cy="563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247A-C26B-480B-8642-2929854CB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6. Conclu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and maintenance aspects not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information is still the crucial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level entry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m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long term 80%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y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a major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60" y="457524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2101-164F-4E53-9CD0-4642C1724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quirements for a Semantic Community Web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ample Scenario: KA2-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ntologies as a Conceptual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ccessing the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160" y="1486080"/>
            <a:ext cx="1031760" cy="34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DEB6-9710-4F32-B3A8-53951D5DD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1. Requirements for a Semantic Community  Web Portal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We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nto practice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a structu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ew onto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basic paradigm of the Web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aspect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people [and machines] can’t share knowled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don’t speak a common language” (Davenpor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 th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160" y="181620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70E9-FB6B-4CF5-8AFA-41ABE4B1EE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1932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pproach has to cover several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unity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 integrated answers exten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rived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provi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ty members must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prov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ssociated tool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160" y="181620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BBAB-5E6E-415D-B3A4-516C270F88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ntobroker Architecture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fig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905120" y="1219320"/>
            <a:ext cx="6019560" cy="549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160" y="181620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8FC3-FFC9-4497-8EA2-CE905F5A3A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notation initiativ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quisition community (KA2-Por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ka2portal.aifb.uni-karlsruh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mantic acces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 has been started several years ago (Richard Benjamins, Dieter Fen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96640"/>
            <a:ext cx="75438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Example Scenario: KA2 - Por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60" y="2311560"/>
            <a:ext cx="1031760" cy="34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7CC0-4249-47B7-926D-F7D6DE6A3C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3. Ontologies as a Conceptual Backbo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2 ontology is the result of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w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laboration of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tology is currently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has been achieved by several workshops and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d by “Key pers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axi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6CBF-CE1D-45B0-B7E9-2DFB9AE02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2209680"/>
            <a:ext cx="617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Partial KA2 Ontology </a:t>
            </a:r>
            <a:br>
              <a:rPr sz="3000"/>
            </a:b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(specified in Frame Logic)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17440" y="2066760"/>
          <a:ext cx="7758360" cy="569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2066760"/>
                    <a:ext cx="7758360" cy="56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8160" y="2819520"/>
            <a:ext cx="1031760" cy="344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9D89-8B7D-419F-88D2-02C1E3909C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9:59:34Z</dcterms:created>
  <dc:creator>Michael Erdmann</dc:creator>
  <dc:description/>
  <dc:language>en-US</dc:language>
  <cp:lastModifiedBy>Stefan Decker</cp:lastModifiedBy>
  <cp:lastPrinted>2000-03-16T07:43:37Z</cp:lastPrinted>
  <dcterms:modified xsi:type="dcterms:W3CDTF">2000-04-11T22:07:24Z</dcterms:modified>
  <cp:revision>61</cp:revision>
  <dc:subject/>
  <dc:title>Semantics for the Web</dc:title>
</cp:coreProperties>
</file>